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137EE-9AD0-4372-B8FC-B84E1DB8B6F4}"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7B3CA-4634-4802-819B-3E17129ABC59}"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A1BCD-F283-4E76-AC4A-D70855F3A646}"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ADCFA-24C9-411A-A1E2-BEF55520A321}"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E36FF-7462-4736-AF3D-B6CCA6A60002}"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20466-0E60-4819-BD21-2F846E434F98}"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4A6AF-9026-4312-9BED-EAC0443A6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82138-F52A-4146-ABE1-6F1481427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8301A-A57A-4641-8D40-A748B8D00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4DAC7-2AAA-4666-A697-02378FC3A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A621AF-5B1E-49B6-A141-86316D0574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E7B96-E1FD-44DF-BD86-70E053E2B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09B24-DF39-4618-B0E0-4D37145DC6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B5BE7-F511-489D-90F1-3FB047D7E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E6B1BB-AD48-4309-B4D1-9CD817790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8D33D-0493-4096-97C8-878293F8C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E9C84-5DCF-4BA1-B1FA-A92F7EA16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5300F-AA5A-44A3-B62E-BFA68F433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D02A3-04EF-4E22-B684-49FE6A594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7D109-C384-49DF-82B4-61C31E2A2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2D00E-A8DF-4023-8378-6676C4924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2F91E9-7D1F-4018-A2DA-8F5734A0EF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E13262-0251-4F29-9683-AAD9879953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E3F27-17CF-46C4-8A1F-B1E711868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D3F39-367E-4439-8E3B-7B93E3ADD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2232C-F70F-419B-8BB7-033F77FE6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836D0-A5F0-4D45-B08D-C20E1908A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87E13-538C-479D-BA62-DC446E769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4E570-1135-4087-9B9B-C96AD1A8B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6BC18-8B0A-4D17-9439-B8F984113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1E215-0B8E-444D-AE06-45AD57D7286F}"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C3A13-F4BE-495F-B676-DC2F020DFC71}"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nálisis jurídico penal de las triangulaciones en el Comercio Internacional</a:t>
            </a:r>
            <a:endParaRPr b="0" lang="en-US" sz="4100" spc="-1" strike="noStrike">
              <a:solidFill>
                <a:srgbClr val="006633"/>
              </a:solidFill>
              <a:latin typeface="Garamond"/>
            </a:endParaRPr>
          </a:p>
        </p:txBody>
      </p:sp>
      <p:sp>
        <p:nvSpPr>
          <p:cNvPr id="94" name="PlaceHolder 2"/>
          <p:cNvSpPr>
            <a:spLocks noGrp="1"/>
          </p:cNvSpPr>
          <p:nvPr>
            <p:ph type="subTitle"/>
          </p:nvPr>
        </p:nvSpPr>
        <p:spPr>
          <a:xfrm>
            <a:off x="899640" y="3962520"/>
            <a:ext cx="7775640" cy="1752480"/>
          </a:xfrm>
          <a:prstGeom prst="rect">
            <a:avLst/>
          </a:prstGeom>
          <a:noFill/>
          <a:ln w="0">
            <a:noFill/>
          </a:ln>
        </p:spPr>
        <p:txBody>
          <a:bodyPr anchor="t">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acundo Sarrabayro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vinculación, por sí sola, no constituye una causal para dejar de lado el valor declarado sino que habrá que constatar que la vinculación afecta o influye en el pre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odalidad de triangulación se da cuando un vendedor radicado en un tercer país (“B”), vende una mercadería localizada en un primer país (“A”) a un comprador ubicado en un segundo país (“C”), encontrándose algunos de esos sujetos ya jurídica o fácticamente vinculados</a:t>
            </a:r>
            <a:r>
              <a:rPr b="0" lang="es-A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2" name="PlaceHolder 2"/>
          <p:cNvSpPr>
            <a:spLocks noGrp="1"/>
          </p:cNvSpPr>
          <p:nvPr>
            <p:ph/>
          </p:nvPr>
        </p:nvSpPr>
        <p:spPr>
          <a:xfrm>
            <a:off x="436680" y="1341360"/>
            <a:ext cx="8229600" cy="45309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ercadería fluye directamente del primer país (“A”) al país importador (“C”), sin que esta ingrese al territorio del tercer país (“B”). Por su parte, el país importador (“C”) paga la mercadería al país vendedor (“B”) y no al país exportador (“A”), el que recibe su pago del vendedor del intermediario localizado en el tercer país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endParaRPr b="0" lang="en-US" sz="4100" spc="-1" strike="noStrike">
              <a:solidFill>
                <a:srgbClr val="006633"/>
              </a:solidFill>
              <a:latin typeface="Garamond"/>
            </a:endParaRPr>
          </a:p>
        </p:txBody>
      </p:sp>
      <p:pic>
        <p:nvPicPr>
          <p:cNvPr id="114" name="2 Marcador de contenido" descr=""/>
          <p:cNvPicPr/>
          <p:nvPr/>
        </p:nvPicPr>
        <p:blipFill>
          <a:blip r:embed="rId1"/>
          <a:stretch/>
        </p:blipFill>
        <p:spPr>
          <a:xfrm>
            <a:off x="1440" y="692280"/>
            <a:ext cx="9150480" cy="514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6" name="PlaceHolder 2"/>
          <p:cNvSpPr>
            <a:spLocks noGrp="1"/>
          </p:cNvSpPr>
          <p:nvPr>
            <p:ph/>
          </p:nvPr>
        </p:nvSpPr>
        <p:spPr>
          <a:xfrm>
            <a:off x="468360" y="14126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triangulación no se encuentra prohibida en sí misma sino cuando </a:t>
            </a:r>
            <a:r>
              <a:rPr b="0" lang="es-ES" sz="3200" spc="-1" strike="noStrike">
                <a:solidFill>
                  <a:srgbClr val="630512"/>
                </a:solidFill>
                <a:latin typeface="Verdana"/>
                <a:ea typeface="Verdana"/>
              </a:rPr>
              <a:t>mediante la utilización de “empresas pantalla”, se implementan mecanismos de “planificación fiscal noci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1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resultado: ¿cuál es el resultado (lesión o puesta en peligro) en el que se materializa el riesgo prohibi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30512"/>
                </a:solidFill>
                <a:latin typeface="Verdana"/>
              </a:rPr>
              <a:t>La tipicidad penal de las triangulaciones nocivas</a:t>
            </a:r>
            <a:endParaRPr b="0" lang="en-US" sz="4000" spc="-1" strike="noStrike">
              <a:solidFill>
                <a:srgbClr val="006633"/>
              </a:solidFill>
              <a:latin typeface="Garamond"/>
            </a:endParaRPr>
          </a:p>
        </p:txBody>
      </p:sp>
      <p:graphicFrame>
        <p:nvGraphicFramePr>
          <p:cNvPr id="120" name=""/>
          <p:cNvGraphicFramePr/>
          <p:nvPr/>
        </p:nvGraphicFramePr>
        <p:xfrm>
          <a:off x="395280" y="1619280"/>
          <a:ext cx="8353440" cy="4491000"/>
        </p:xfrm>
        <a:graphic>
          <a:graphicData uri="http://schemas.openxmlformats.org/drawingml/2006/table">
            <a:tbl>
              <a:tblPr/>
              <a:tblGrid>
                <a:gridCol w="798480"/>
                <a:gridCol w="3660840"/>
                <a:gridCol w="3894120"/>
              </a:tblGrid>
              <a:tr h="406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obrefacturación/sobre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ubfacturación/sub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r>
              <a:tr h="22860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IM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Fuga de divisas (¿delito cambiario, declaración inexacta o 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VA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nticipo de IG (¿Evasión o contrabando?)</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r>
              <a:tr h="17985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EX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 / Infracción (art. 954)</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a:t>
                      </a:r>
                      <a:r>
                        <a:rPr b="0" lang="es-AR" sz="1600" spc="-1" strike="noStrike">
                          <a:solidFill>
                            <a:srgbClr val="000000"/>
                          </a:solidFill>
                          <a:latin typeface="Arial"/>
                        </a:rPr>
                        <a:t> </a:t>
                      </a:r>
                      <a:r>
                        <a:rPr b="0" lang="es-AR" sz="1600" spc="-1" strike="noStrike">
                          <a:solidFill>
                            <a:srgbClr val="000000"/>
                          </a:solidFill>
                          <a:latin typeface="Arial"/>
                        </a:rPr>
                        <a:t>base imponible de derechos de exportación (Contrabando documentado o declaración inexacta)</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a:t>
                      </a:r>
                      <a:r>
                        <a:rPr b="0" lang="es-AR" sz="1600" spc="-1" strike="noStrike">
                          <a:solidFill>
                            <a:srgbClr val="000000"/>
                          </a:solidFill>
                          <a:latin typeface="Arial"/>
                        </a:rPr>
                        <a:t>ingreso de divisas (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 Evasión de I.G.</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acción: </a:t>
            </a:r>
            <a:r>
              <a:rPr b="0" lang="es-ES" sz="3200" spc="-1" strike="noStrike">
                <a:solidFill>
                  <a:srgbClr val="630512"/>
                </a:solidFill>
                <a:latin typeface="Verdana"/>
                <a:ea typeface="Verdana"/>
              </a:rPr>
              <a:t>la creación de riesgos jurídicamente inaceptables para la normatividad social</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30512"/>
                </a:solidFill>
                <a:latin typeface="Verdana"/>
                <a:ea typeface="Verdana"/>
              </a:rPr>
              <a:t>Delimitación de los riesgos prohibidos y riesgos permiti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evasión fiscal: violación del deber de autodeterminación del tribu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6"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contrabando documentado: exigencia de un deber agravado de veracidad en la declaración aduanera</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delito de contrabando documentado no exige un 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Conceptos de valor en aduana y precios de transferenc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nálisis del impacto global de la maniobr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diferencia de precios puede ser razonable de acuerdo a la estructura de la oper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30"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No es la modalidad de triangulación en sí misma lo que las tipifica como tales sino que el ilícito sólo tendrá lugar cuando exista una manipulación artificiosa de los precios de transferencia para obtener una ventaja indebida de tipo aduanero, fiscal, cambiari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gropatagónico S.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ocultación de la vinculación (”Empresas Pantal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4" name="PlaceHolder 2"/>
          <p:cNvSpPr>
            <a:spLocks noGrp="1"/>
          </p:cNvSpPr>
          <p:nvPr>
            <p:ph/>
          </p:nvPr>
        </p:nvSpPr>
        <p:spPr>
          <a:xfrm>
            <a:off x="434880" y="1306080"/>
            <a:ext cx="8229600" cy="4243320"/>
          </a:xfrm>
          <a:prstGeom prst="rect">
            <a:avLst/>
          </a:prstGeom>
          <a:noFill/>
          <a:ln w="0">
            <a:noFill/>
          </a:ln>
        </p:spPr>
        <p:txBody>
          <a:bodyPr anchor="t">
            <a:normAutofit fontScale="94000"/>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Food Land S.A.” (subf. expo – derechos y Penal Trib.)</a:t>
            </a:r>
            <a:endParaRPr b="0" lang="en-US" sz="32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La ocultación de la vinculación (”Empresas Pantalla”)</a:t>
            </a:r>
            <a:endParaRPr b="0" lang="en-US" sz="20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Se acreditó la relación directa que existiría entre FOOD’S LAND S.A. y OOO MOREODOR, la cual habría abonado directamente a la primera, mediante transferencias, el precio pactado, sin verificarse intervención alguna por parte de TITUS TRADING CO LLP, pese a lo indicado en la factura de exportación presentada en este país, la cual fue emitida a nombre de TITUS TRADING CO LL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6" name="PlaceHolder 2"/>
          <p:cNvSpPr>
            <a:spLocks noGrp="1"/>
          </p:cNvSpPr>
          <p:nvPr>
            <p:ph/>
          </p:nvPr>
        </p:nvSpPr>
        <p:spPr>
          <a:xfrm>
            <a:off x="468360" y="1699920"/>
            <a:ext cx="8229600" cy="42433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Cargill”</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registración de las operaciones</a:t>
            </a:r>
            <a:r>
              <a:rPr b="0" lang="es-AR" sz="2800" spc="-1" strike="noStrike">
                <a:solidFill>
                  <a:srgbClr val="630512"/>
                </a:solidFill>
                <a:latin typeface="Verdana"/>
                <a:ea typeface="Verdana"/>
              </a:rPr>
              <a:t>	</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El impacto tributario global (“ponderación total)</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magnitud de la estructura de la </a:t>
            </a:r>
            <a:r>
              <a:rPr b="0" i="1" lang="es-AR" sz="2800" spc="-1" strike="noStrike">
                <a:solidFill>
                  <a:srgbClr val="630512"/>
                </a:solidFill>
                <a:latin typeface="Verdana"/>
                <a:ea typeface="Verdana"/>
              </a:rPr>
              <a:t>tra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8"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idera”</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ocultación de información (cantidad, precio y fecha)</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Presentación espontánea de documen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Colaboración en caso de fiscalización</a:t>
            </a:r>
            <a:endParaRPr b="0" lang="en-US" sz="28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0"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DM”</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prueba en contra de la veracidad de los precios a la fecha de concer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levancia del valor real independientemente del sexto méto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2"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ovartis”</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Utilización o presentación de documentación apócrif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B. S. H.”</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ctificación de valores declarados o de declaraciones juradas</a:t>
            </a: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6" name="PlaceHolder 2"/>
          <p:cNvSpPr>
            <a:spLocks noGrp="1"/>
          </p:cNvSpPr>
          <p:nvPr>
            <p:ph/>
          </p:nvPr>
        </p:nvSpPr>
        <p:spPr>
          <a:xfrm>
            <a:off x="457200" y="143964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ZOLFAGHARIAN”</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630512"/>
                </a:solidFill>
                <a:latin typeface="Verdana"/>
                <a:ea typeface="Verdana"/>
              </a:rPr>
              <a:t>La mercadería era facturada a empresas vinculadas para su posterior refacturación al destinatario real de los productos (el importador en el país de destino) quien giraba los pagos en divisas a cuentas constituidas en países de baja o nula tributación, desde los cuales se realizaban liquidaciones parciales en el Mercado Único y Libre de Cambio, a los fines de cumplir con la regulación cambiaria por los valores FOB falsamente declarados.</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La facilitación del comercio internacional y prevención de fraude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generales de tipo preventivo</a:t>
            </a:r>
            <a:br>
              <a:rPr sz="4100"/>
            </a:br>
            <a:endParaRPr b="0" lang="en-US" sz="4100" spc="-1" strike="noStrike">
              <a:solidFill>
                <a:srgbClr val="006633"/>
              </a:solidFill>
              <a:latin typeface="Garamond"/>
            </a:endParaRPr>
          </a:p>
        </p:txBody>
      </p:sp>
      <p:sp>
        <p:nvSpPr>
          <p:cNvPr id="14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penden del caso concre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Principio general: Transparencia de las relaciones entre la exportadora y la </a:t>
            </a:r>
            <a:r>
              <a:rPr b="0" i="1" lang="es-AR" sz="3200" spc="-1" strike="noStrike">
                <a:solidFill>
                  <a:srgbClr val="630512"/>
                </a:solidFill>
                <a:latin typeface="Verdana"/>
                <a:ea typeface="Verdana"/>
              </a:rPr>
              <a:t>trader</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Delimitación de las triangulaciones nocivas o fraudulenta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br>
              <a:rPr sz="4100"/>
            </a:br>
            <a:r>
              <a:rPr b="0" lang="es-ES_tradnl" sz="4100" spc="-1" strike="noStrike">
                <a:solidFill>
                  <a:srgbClr val="630512"/>
                </a:solidFill>
                <a:latin typeface="Verdana"/>
              </a:rPr>
              <a:t>El fenómeno de la vinculación empresar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Aproximación a partir del derecho societario </a:t>
            </a:r>
            <a:endParaRPr b="0" lang="en-US" sz="3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630512"/>
                </a:solidFill>
                <a:latin typeface="Verdana"/>
              </a:rPr>
              <a:t>Dinámica del control</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Definición por normas tributarias, cambiarias, aduaneras y de defensa de la competenc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La posibilidad de incidir, influir, afectar o alterar de cualquier modo el curso de la voluntad social de una persona jurídica como resultado de una especial relación de conexió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El valor en aduana y los precios de transferencia como herramientas para prevenir las distorsiones que genera la vinculación empresar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4:41:18Z</dcterms:created>
  <dc:creator>Estudio de los Dres. Roca &amp; Sarrabayrouse | Avda. Leandro N. Alem 822, 2º piso | (+54) (11) 4312-4899/4877/4997 | (C1001AAQ) Ciudad Autónoma de Buenos Aires</dc:creator>
  <dc:description/>
  <dc:language>en-US</dc:language>
  <cp:lastModifiedBy>Pablo Garcia</cp:lastModifiedBy>
  <dcterms:modified xsi:type="dcterms:W3CDTF">2023-06-06T18:04:57Z</dcterms:modified>
  <cp:revision>67</cp:revision>
  <dc:subject/>
  <dc:title>Aspectos relevantes del Régimen Penal Cambiario.</dc:title>
</cp:coreProperties>
</file>